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546-0025-41A3-A676-A5514D29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420-5A09-4612-94A3-7D70BBD3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E4A-9995-4D32-B2A7-345A37DC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CD4-2CBC-46A1-8891-D5C79AC4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B85-3BA5-4D7C-9B97-B613B4B1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1E0-C006-4488-9D5D-2290BB92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68A-37AF-4213-996D-CD6DA082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C84-CC03-4089-B43A-81CC07C9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EAE-3D16-4BF1-A2EE-E23E3CF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862-786F-4F14-ADA9-E99F9D8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C59-CC7B-4A72-8387-4760893D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B2A-0EB4-4420-9DFF-2F43DE2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B113-266F-4835-B0A0-E2469C589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igh-Frequency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rst 100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and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th his m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 your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rom my 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 been a lo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ill you be goo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ive them to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n we will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is the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 angry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ay I go fir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will they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your n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my c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at dog is bi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t on the b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wo of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d you se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st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e the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 big as the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ut not fo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called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will we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did they ge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rom here to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umb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ook u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l or s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d you lik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long way to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had their do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did they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or some of your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id they s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would you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number of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o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long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than th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e and get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ow many wor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t of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is is a good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rite 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an you se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w and t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ut not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o find 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ot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ook for some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 like hi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o there you a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t of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y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lo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were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ve you see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uld you 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mor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 like to wri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l day lo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o th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 about ti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other peo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o will make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 in the 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has to 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w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ach of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has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are the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we were ol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re was an old m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’s no u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t may fall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0:40:58Z</dcterms:created>
  <dc:creator>Rob Hall</dc:creator>
  <dc:description/>
  <dc:language>en-US</dc:language>
  <cp:lastModifiedBy>test2</cp:lastModifiedBy>
  <dcterms:modified xsi:type="dcterms:W3CDTF">2008-01-30T17:03:03Z</dcterms:modified>
  <cp:revision>5</cp:revision>
  <dc:subject/>
  <dc:title>High-Frequency Phrases</dc:title>
</cp:coreProperties>
</file>